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F50-43FF-4BC2-B5BC-8FBF56BB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F18-ADDB-4914-A846-CD97047A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A8A-9636-4318-98E0-9B9DD95C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F18-4CC3-4540-A081-328FF637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CD6C-5059-4C5F-9D3F-CFF615BC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8C36-3A98-4C0B-8CEF-44CE574E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0A3B-DEF4-445A-8550-C55CC1AD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C2CF-B9DA-4EF3-BFF4-5763A6AF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05BE-8A78-4C39-89D0-4CBE2C22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79A2-DD18-44B0-A7EF-785495B2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49AC-1DDC-420A-AAAD-07A7254B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053-837A-4B4D-ADA8-10A9403D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49DC-568F-4BEC-8BDB-B9B86FA7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25CD-51B7-4C40-BD66-C4BB2BF4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847A-7372-48EF-B28E-5E82914F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DF44-7B9A-4864-A594-ED4130F7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3662-6ECA-428C-93C2-C663AE3B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1B5-D755-40DD-8504-006B3AA6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E35-48E3-4AB2-994B-92F50D64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D4B-AADA-4CEC-95CC-6F7BB152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E6E-46B0-4558-8BCF-28BFDD68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C06-A6CB-4DB9-9F26-8DD86F45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34E-0F94-485D-AA41-33521DFF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FB8-B7C9-48AF-AC50-3BF40AA8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9190-A993-41A0-B1CE-1BF14519DB9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6880-1F3C-40FD-BD30-53E85D8FAC8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146160" y="1809720"/>
            <a:ext cx="90406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8760" y="928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действие массовой информации на сознание людей нередко достигается с помощью стереотипов и имиджей. Несмотря на обилие научных работ, посвященных проблеме формирования стереотипов, она остается одной из самых малоизученных в психологии журналист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8568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ятие «стереотип» впервые введено в оборот известным американским журналистом Уолтером Липпманом в 1922 г. в книге «Общественное мнени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28760" y="8568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ереотип - упрощенное, заранее принятое представление, не вытекающее из собственного опыта чело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28760" y="8568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едряя стереотипы из области экономики (банкротство — стимулятор, оживитель экономических процессов; смена собственника — благо, гарант процветания предприятия и т. п.), СМИ создают чувство опасности и дискомфорта. Люди становятся заложниками политических решений. Официальная пресса по-прежнему реализует функцию поддержания социальных структур с помощью стереотип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8568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Справедливо утверждение, что сегодня «информация» превратилась в инструмент власти, который используется как товар, а последние достижения в области технологии делают его структурным элементом стратегии имперского государства, предначертанным для ротации структуры бюрократической жизни, т. е. управленческого аппарата государства. Именно поэтому информация поступает к потребителю в усеченном виде. Средства массовой информации навязывают определенные правила прочтения социальных отношений, стоящих на службе существующего поряд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02</cp:lastModifiedBy>
  <dcterms:modified xsi:type="dcterms:W3CDTF">2009-12-04T06:27:33Z</dcterms:modified>
  <cp:revision>5</cp:revision>
  <dc:subject/>
  <dc:title>Стереотип, формирование стереотипов в процессе массовой коммуникации</dc:title>
</cp:coreProperties>
</file>